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5.png" ContentType="image/png"/>
  <Override PartName="/ppt/media/image6.wmf" ContentType="image/x-wmf"/>
  <Override PartName="/ppt/media/image28.png" ContentType="image/png"/>
  <Override PartName="/ppt/media/image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4000" spc="-1" strike="noStrike" cap="all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enkinscomputers.com/jenkins%20computers%20log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hccyouth.com/clientimages/40566/wordboxes/activate.gif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lia-artschools.org/_images/activities/interartes/q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helpdesk@mersinc.or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quickshoot.com/Work_Zone.gif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uckyicon.com/pictures/atomic-email-harvester/atomic-email-harvester-icon.pn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rsinc.org/" TargetMode="External"/><Relationship Id="rId2" Type="http://schemas.openxmlformats.org/officeDocument/2006/relationships/hyperlink" Target="http://www.wallingfordvt.com/BS01029_.gi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clipartof.com/small/19276-Clipart-Illustration-Of-A-Gold-Person-Leaning-Against-A-Stacked-Questions-And-Answers-Icon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gsc.org.uk/cmsimages/BONB%20host_1011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ertyprosperity.files.wordpress.com/2008/10/fraud-751211.gi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psllc.com/rekey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Help Is At Your Finger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kie Nei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mela Lej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Support Departments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roduct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ystem (IS)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rporate webs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rporate data and communication syst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ysical and information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581280"/>
            <a:ext cx="4038120" cy="25142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Support Departments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roduct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Development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onds to business-critical change reque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icits member feedback and delivers products and services that meet your nee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s strategic relationships with industry technology providers to better deliver outstanding products to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Support Departments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roduct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Integration/Membership Depar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activation to the MERS®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onsite and remote sup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solutions to address customer probl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e support of MERS regional directors and vendor resour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rage customer's exist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ac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assurance pla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Support Departments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roduct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Performance Department (P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-activ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ing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acceptance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86360" y="3657600"/>
            <a:ext cx="3928680" cy="220788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PD: Continuing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customers’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-to-m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12" descr="http://www.aolcdn.com/ch_playsavvy/coloredpencils"/>
          <p:cNvPicPr/>
          <p:nvPr/>
        </p:nvPicPr>
        <p:blipFill>
          <a:blip r:embed="rId1"/>
          <a:stretch/>
        </p:blipFill>
        <p:spPr>
          <a:xfrm>
            <a:off x="4114800" y="1752480"/>
            <a:ext cx="4368600" cy="327636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PD: Quality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reference gu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M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Reports &gt; Reconciliation &gt; Quality As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600200"/>
            <a:ext cx="3276360" cy="15998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ingle point of contact for all MERS-related inqui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on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88-680-MERS (637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helpdesk@mersinc.or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0-555-MERS (637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VR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888-679-MERS (637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6" descr="http://www.craigharper.com.au/uploaded_images/helpbutton.jpg"/>
          <p:cNvPicPr/>
          <p:nvPr/>
        </p:nvPicPr>
        <p:blipFill>
          <a:blip r:embed="rId2"/>
          <a:stretch/>
        </p:blipFill>
        <p:spPr>
          <a:xfrm>
            <a:off x="6103800" y="2666880"/>
            <a:ext cx="283032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8" descr="MPj04100490000[1]"/>
          <p:cNvPicPr/>
          <p:nvPr/>
        </p:nvPicPr>
        <p:blipFill>
          <a:blip r:embed="rId1"/>
          <a:stretch/>
        </p:blipFill>
        <p:spPr>
          <a:xfrm>
            <a:off x="1295280" y="914400"/>
            <a:ext cx="5105160" cy="4800240"/>
          </a:xfrm>
          <a:prstGeom prst="rect">
            <a:avLst/>
          </a:prstGeom>
          <a:ln w="9525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41936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rs of ope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day to Fri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:00 am to 10:00 pm 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fter-hours sup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CA" sz="3600" spc="-1" strike="noStrike">
                <a:solidFill>
                  <a:schemeClr val="accent1"/>
                </a:solidFill>
                <a:latin typeface="Calibri"/>
              </a:rPr>
              <a:t>Help Desk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sponds to member inquiries (phone &amp; em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acilitates requests to reset sys admin pass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sets MERS® Link pass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rocesses mail and f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aintains member contacts (G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fers non-members to the Servicer Identificatio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rocesses work order reque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Receives enhancement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495680"/>
            <a:ext cx="1828440" cy="167616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-Mail Notices From the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no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 document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raining bullet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opport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ystem rel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olicy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83160" y="2514600"/>
            <a:ext cx="3188880" cy="198072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genda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do w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support depar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de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for non-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eatures on 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ur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www.mersinc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st for priz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1676520"/>
            <a:ext cx="2742840" cy="388584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Tools for Non-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V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mersinc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in Now Become a M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Servicer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bsite Contact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 For Home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C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6" descr="http://www.hss.state.ak.us/gcdse/history/Images/DSS_AccessImage.jpg"/>
          <p:cNvPicPr/>
          <p:nvPr/>
        </p:nvPicPr>
        <p:blipFill>
          <a:blip r:embed="rId1"/>
          <a:stretch/>
        </p:blipFill>
        <p:spPr>
          <a:xfrm>
            <a:off x="5638680" y="1676520"/>
            <a:ext cx="3285720" cy="350496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Let’s take a tour of </a:t>
            </a:r>
            <a:r>
              <a:rPr b="1" i="1" lang="en-US" sz="3600" spc="-1" strike="noStrike" u="sng">
                <a:solidFill>
                  <a:schemeClr val="accent1"/>
                </a:solidFill>
                <a:uFillTx/>
                <a:latin typeface="Calibri"/>
              </a:rPr>
              <a:t>www.mersinc.org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http://blog.telenav.com/photos/uncategorized/2008/07/22/road_trip.jpg"/>
          <p:cNvPicPr/>
          <p:nvPr/>
        </p:nvPicPr>
        <p:blipFill>
          <a:blip r:embed="rId1"/>
          <a:stretch/>
        </p:blipFill>
        <p:spPr>
          <a:xfrm>
            <a:off x="1752480" y="1523880"/>
            <a:ext cx="5562360" cy="417168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rcRect l="0" t="19995" r="0" b="14995"/>
          <a:stretch/>
        </p:blipFill>
        <p:spPr>
          <a:xfrm>
            <a:off x="0" y="0"/>
            <a:ext cx="9249840" cy="6857640"/>
          </a:xfrm>
          <a:prstGeom prst="rect">
            <a:avLst/>
          </a:prstGeom>
          <a:ln w="9525">
            <a:noFill/>
          </a:ln>
        </p:spPr>
      </p:pic>
      <p:sp>
        <p:nvSpPr>
          <p:cNvPr id="258" name="Rectangular Callout 5"/>
          <p:cNvSpPr/>
          <p:nvPr/>
        </p:nvSpPr>
        <p:spPr>
          <a:xfrm>
            <a:off x="0" y="304920"/>
            <a:ext cx="1142640" cy="612360"/>
          </a:xfrm>
          <a:prstGeom prst="wedgeRectCallout">
            <a:avLst>
              <a:gd name="adj1" fmla="val 131167"/>
              <a:gd name="adj2" fmla="val 65486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bout 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ular Callout 6"/>
          <p:cNvSpPr/>
          <p:nvPr/>
        </p:nvSpPr>
        <p:spPr>
          <a:xfrm>
            <a:off x="0" y="1447920"/>
            <a:ext cx="1066320" cy="1828440"/>
          </a:xfrm>
          <a:prstGeom prst="wedgeRectCallout">
            <a:avLst>
              <a:gd name="adj1" fmla="val 73453"/>
              <a:gd name="adj2" fmla="val -38834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ools &amp; Services which lists items to aid you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ular Callout 7"/>
          <p:cNvSpPr/>
          <p:nvPr/>
        </p:nvSpPr>
        <p:spPr>
          <a:xfrm>
            <a:off x="8153280" y="762120"/>
            <a:ext cx="990360" cy="1904760"/>
          </a:xfrm>
          <a:prstGeom prst="wedgeRectCallout">
            <a:avLst>
              <a:gd name="adj1" fmla="val -90987"/>
              <a:gd name="adj2" fmla="val -6940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You should always check out, “What’s New</a:t>
            </a: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ular Callout 8"/>
          <p:cNvSpPr/>
          <p:nvPr/>
        </p:nvSpPr>
        <p:spPr>
          <a:xfrm>
            <a:off x="3962520" y="4343400"/>
            <a:ext cx="2285640" cy="685440"/>
          </a:xfrm>
          <a:prstGeom prst="wedgeRectCallout">
            <a:avLst>
              <a:gd name="adj1" fmla="val -17756"/>
              <a:gd name="adj2" fmla="val -91506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ll of MERS available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ular Callout 9"/>
          <p:cNvSpPr/>
          <p:nvPr/>
        </p:nvSpPr>
        <p:spPr>
          <a:xfrm>
            <a:off x="3733920" y="5715000"/>
            <a:ext cx="1828440" cy="764640"/>
          </a:xfrm>
          <a:prstGeom prst="wedgeRectCallout">
            <a:avLst>
              <a:gd name="adj1" fmla="val 22167"/>
              <a:gd name="adj2" fmla="val 79233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Use the Member Directory 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0" t="16250" r="0" b="2874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6" name="Rectangular Callout 4"/>
          <p:cNvSpPr/>
          <p:nvPr/>
        </p:nvSpPr>
        <p:spPr>
          <a:xfrm>
            <a:off x="0" y="1828800"/>
            <a:ext cx="1218960" cy="761760"/>
          </a:xfrm>
          <a:prstGeom prst="wedgeRectCallout">
            <a:avLst>
              <a:gd name="adj1" fmla="val 71667"/>
              <a:gd name="adj2" fmla="val -107936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Newsroom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ular Callout 5"/>
          <p:cNvSpPr/>
          <p:nvPr/>
        </p:nvSpPr>
        <p:spPr>
          <a:xfrm>
            <a:off x="7543800" y="2514600"/>
            <a:ext cx="1294920" cy="1371240"/>
          </a:xfrm>
          <a:prstGeom prst="wedgeRectCallout">
            <a:avLst>
              <a:gd name="adj1" fmla="val -142362"/>
              <a:gd name="adj2" fmla="val 98958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ips &amp; Hints is a “Link Driven” Newsl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ular Callout 6"/>
          <p:cNvSpPr/>
          <p:nvPr/>
        </p:nvSpPr>
        <p:spPr>
          <a:xfrm>
            <a:off x="2743200" y="1828800"/>
            <a:ext cx="2057040" cy="612360"/>
          </a:xfrm>
          <a:prstGeom prst="wedgeRectCallout">
            <a:avLst>
              <a:gd name="adj1" fmla="val 34723"/>
              <a:gd name="adj2" fmla="val -95709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Knowledge Base…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On 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rcRect l="0" t="16250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2" name="Rectangular Callout 4"/>
          <p:cNvSpPr/>
          <p:nvPr/>
        </p:nvSpPr>
        <p:spPr>
          <a:xfrm>
            <a:off x="1219320" y="1600200"/>
            <a:ext cx="2133360" cy="612360"/>
          </a:xfrm>
          <a:prstGeom prst="wedgeRectCallout">
            <a:avLst>
              <a:gd name="adj1" fmla="val -14833"/>
              <a:gd name="adj2" fmla="val -230037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earch cap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ular Callout 5"/>
          <p:cNvSpPr/>
          <p:nvPr/>
        </p:nvSpPr>
        <p:spPr>
          <a:xfrm>
            <a:off x="1828800" y="2895480"/>
            <a:ext cx="1447560" cy="612360"/>
          </a:xfrm>
          <a:prstGeom prst="wedgeRectCallout">
            <a:avLst>
              <a:gd name="adj1" fmla="val -52412"/>
              <a:gd name="adj2" fmla="val 223694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FAQ by Su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16250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77" name="Rectangular Callout 4"/>
          <p:cNvSpPr/>
          <p:nvPr/>
        </p:nvSpPr>
        <p:spPr>
          <a:xfrm>
            <a:off x="2286000" y="1905120"/>
            <a:ext cx="914040" cy="612360"/>
          </a:xfrm>
          <a:prstGeom prst="wedgeRectCallout">
            <a:avLst>
              <a:gd name="adj1" fmla="val 33167"/>
              <a:gd name="adj2" fmla="val -233022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ular Callout 5"/>
          <p:cNvSpPr/>
          <p:nvPr/>
        </p:nvSpPr>
        <p:spPr>
          <a:xfrm>
            <a:off x="2590920" y="4572000"/>
            <a:ext cx="1904760" cy="612360"/>
          </a:xfrm>
          <a:prstGeom prst="wedgeRectCallout">
            <a:avLst>
              <a:gd name="adj1" fmla="val 23060"/>
              <a:gd name="adj2" fmla="val 125186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MERS Hosted Events T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ular Callout 6"/>
          <p:cNvSpPr/>
          <p:nvPr/>
        </p:nvSpPr>
        <p:spPr>
          <a:xfrm>
            <a:off x="4800600" y="4572000"/>
            <a:ext cx="1904760" cy="612360"/>
          </a:xfrm>
          <a:prstGeom prst="wedgeRectCallout">
            <a:avLst>
              <a:gd name="adj1" fmla="val -23073"/>
              <a:gd name="adj2" fmla="val 122201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MERS Attending Events T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rcRect l="0" t="29995" r="0" b="3124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3" name="Rectangular Callout 4"/>
          <p:cNvSpPr/>
          <p:nvPr/>
        </p:nvSpPr>
        <p:spPr>
          <a:xfrm>
            <a:off x="4495680" y="1219320"/>
            <a:ext cx="1676160" cy="914040"/>
          </a:xfrm>
          <a:prstGeom prst="wedgeRectCallout">
            <a:avLst>
              <a:gd name="adj1" fmla="val -96886"/>
              <a:gd name="adj2" fmla="val 24500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his List is Available for Down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ular Callout 5"/>
          <p:cNvSpPr/>
          <p:nvPr/>
        </p:nvSpPr>
        <p:spPr>
          <a:xfrm>
            <a:off x="2514600" y="3352680"/>
            <a:ext cx="1575720" cy="2361960"/>
          </a:xfrm>
          <a:prstGeom prst="wedgeRectCallout">
            <a:avLst>
              <a:gd name="adj1" fmla="val -78938"/>
              <a:gd name="adj2" fmla="val -64948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elect Enhancements to submit an enhancement to MERS regarding an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ular Callout 6"/>
          <p:cNvSpPr/>
          <p:nvPr/>
        </p:nvSpPr>
        <p:spPr>
          <a:xfrm>
            <a:off x="0" y="3809880"/>
            <a:ext cx="1523520" cy="1142640"/>
          </a:xfrm>
          <a:prstGeom prst="wedgeRectCallout">
            <a:avLst>
              <a:gd name="adj1" fmla="val 35567"/>
              <a:gd name="adj2" fmla="val 72786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Information page for non-MERS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rcRect l="0" t="16250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89" name="Rectangular Callout 4"/>
          <p:cNvSpPr/>
          <p:nvPr/>
        </p:nvSpPr>
        <p:spPr>
          <a:xfrm>
            <a:off x="0" y="762120"/>
            <a:ext cx="2742840" cy="914040"/>
          </a:xfrm>
          <a:prstGeom prst="wedgeRectCallout">
            <a:avLst>
              <a:gd name="adj1" fmla="val 17167"/>
              <a:gd name="adj2" fmla="val -97500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elect Contact Us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ools &amp;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ular Callout 5"/>
          <p:cNvSpPr/>
          <p:nvPr/>
        </p:nvSpPr>
        <p:spPr>
          <a:xfrm>
            <a:off x="5943600" y="2438280"/>
            <a:ext cx="2895120" cy="990360"/>
          </a:xfrm>
          <a:prstGeom prst="wedgeRectCallout">
            <a:avLst>
              <a:gd name="adj1" fmla="val -54307"/>
              <a:gd name="adj2" fmla="val 103115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Complete form to submit question/comment/inquiry to MERS for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rcRect l="0" t="16250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94" name="Rectangular Callout 4"/>
          <p:cNvSpPr/>
          <p:nvPr/>
        </p:nvSpPr>
        <p:spPr>
          <a:xfrm>
            <a:off x="609480" y="1600200"/>
            <a:ext cx="1523520" cy="917280"/>
          </a:xfrm>
          <a:prstGeom prst="wedgeRectCallout">
            <a:avLst>
              <a:gd name="adj1" fmla="val 24767"/>
              <a:gd name="adj2" fmla="val -83015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elect Member 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ular Callout 5"/>
          <p:cNvSpPr/>
          <p:nvPr/>
        </p:nvSpPr>
        <p:spPr>
          <a:xfrm>
            <a:off x="4419720" y="914400"/>
            <a:ext cx="1218960" cy="612360"/>
          </a:xfrm>
          <a:prstGeom prst="wedgeRectCallout">
            <a:avLst>
              <a:gd name="adj1" fmla="val -127333"/>
              <a:gd name="adj2" fmla="val 53545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Make Se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ular Callout 6"/>
          <p:cNvSpPr/>
          <p:nvPr/>
        </p:nvSpPr>
        <p:spPr>
          <a:xfrm>
            <a:off x="5410080" y="4114800"/>
            <a:ext cx="1599840" cy="2209320"/>
          </a:xfrm>
          <a:prstGeom prst="wedgeRectCallout">
            <a:avLst>
              <a:gd name="adj1" fmla="val -137404"/>
              <a:gd name="adj2" fmla="val -11155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Must have a MERS User ID Sign-on and Password to complete this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rcRect l="0" t="16250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0" name="Rectangular Callout 4"/>
          <p:cNvSpPr/>
          <p:nvPr/>
        </p:nvSpPr>
        <p:spPr>
          <a:xfrm>
            <a:off x="685800" y="3581280"/>
            <a:ext cx="2514240" cy="612360"/>
          </a:xfrm>
          <a:prstGeom prst="wedgeRectCallout">
            <a:avLst>
              <a:gd name="adj1" fmla="val -9924"/>
              <a:gd name="adj2" fmla="val -155410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elect Payment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Who do we hel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u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orne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tle compan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de enforcement offic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w enforcement agen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Documents and Settings\vickien\Local Settings\Temporary Internet Files\Content.IE5\CFKXGCPO\MCSY01345_0000[1].wmf"/>
          <p:cNvPicPr/>
          <p:nvPr/>
        </p:nvPicPr>
        <p:blipFill>
          <a:blip r:embed="rId1"/>
          <a:stretch/>
        </p:blipFill>
        <p:spPr>
          <a:xfrm>
            <a:off x="5257800" y="1219320"/>
            <a:ext cx="2883960" cy="274284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rcRect l="0" t="47495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4" name="Rectangular Callout 4"/>
          <p:cNvSpPr/>
          <p:nvPr/>
        </p:nvSpPr>
        <p:spPr>
          <a:xfrm>
            <a:off x="5105520" y="2209680"/>
            <a:ext cx="1142640" cy="990360"/>
          </a:xfrm>
          <a:prstGeom prst="wedgeRectCallout">
            <a:avLst>
              <a:gd name="adj1" fmla="val -56033"/>
              <a:gd name="adj2" fmla="val -168269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MERS’ various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ular Callout 5"/>
          <p:cNvSpPr/>
          <p:nvPr/>
        </p:nvSpPr>
        <p:spPr>
          <a:xfrm>
            <a:off x="4724280" y="4191120"/>
            <a:ext cx="1447560" cy="1904760"/>
          </a:xfrm>
          <a:prstGeom prst="wedgeRectCallout">
            <a:avLst>
              <a:gd name="adj1" fmla="val -128201"/>
              <a:gd name="adj2" fmla="val -55580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ypical format , if applicable when selecting a MERS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17495" r="0" b="21245"/>
          <a:stretch/>
        </p:blipFill>
        <p:spPr>
          <a:xfrm>
            <a:off x="0" y="0"/>
            <a:ext cx="9753120" cy="6857640"/>
          </a:xfrm>
          <a:prstGeom prst="rect">
            <a:avLst/>
          </a:prstGeom>
          <a:ln w="9525">
            <a:noFill/>
          </a:ln>
        </p:spPr>
      </p:pic>
      <p:sp>
        <p:nvSpPr>
          <p:cNvPr id="309" name="Flowchart: Process 4"/>
          <p:cNvSpPr/>
          <p:nvPr/>
        </p:nvSpPr>
        <p:spPr>
          <a:xfrm>
            <a:off x="7162920" y="838080"/>
            <a:ext cx="167616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rcRect l="0" t="16250" r="0" b="174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13" name="Flowchart: Process 4"/>
          <p:cNvSpPr/>
          <p:nvPr/>
        </p:nvSpPr>
        <p:spPr>
          <a:xfrm>
            <a:off x="7315200" y="1066680"/>
            <a:ext cx="121896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IGN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0" t="17495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17" name="Flowchart: Process 4"/>
          <p:cNvSpPr/>
          <p:nvPr/>
        </p:nvSpPr>
        <p:spPr>
          <a:xfrm>
            <a:off x="6934320" y="838080"/>
            <a:ext cx="137124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ULLET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lowchart: Process 5"/>
          <p:cNvSpPr/>
          <p:nvPr/>
        </p:nvSpPr>
        <p:spPr>
          <a:xfrm>
            <a:off x="838080" y="3657600"/>
            <a:ext cx="1752120" cy="182844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Bulletins are posted as Release, Policy, Training, Reminder, or Announ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0" t="16250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22" name="Flowchart: Process 4"/>
          <p:cNvSpPr/>
          <p:nvPr/>
        </p:nvSpPr>
        <p:spPr>
          <a:xfrm>
            <a:off x="7010280" y="990720"/>
            <a:ext cx="121896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PRI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0" t="16250" r="0" b="1625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26" name="Flowchart: Process 4"/>
          <p:cNvSpPr/>
          <p:nvPr/>
        </p:nvSpPr>
        <p:spPr>
          <a:xfrm>
            <a:off x="7086600" y="533520"/>
            <a:ext cx="129492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MANU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Flowchart: Process 5"/>
          <p:cNvSpPr/>
          <p:nvPr/>
        </p:nvSpPr>
        <p:spPr>
          <a:xfrm>
            <a:off x="533520" y="3733920"/>
            <a:ext cx="1904760" cy="175212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This is also where  you can download the Quick Reference Guides and Report Sam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0" t="17495" r="0" b="1625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31" name="Flowchart: Process 4"/>
          <p:cNvSpPr/>
          <p:nvPr/>
        </p:nvSpPr>
        <p:spPr>
          <a:xfrm>
            <a:off x="7315200" y="762120"/>
            <a:ext cx="91404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lowchart: Process 5"/>
          <p:cNvSpPr/>
          <p:nvPr/>
        </p:nvSpPr>
        <p:spPr>
          <a:xfrm>
            <a:off x="533520" y="3886200"/>
            <a:ext cx="2057040" cy="266652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ownload a Member Application, Company Information Change Request form, Sample QA plan, or sample member loan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17495" r="0" b="1499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36" name="Flowchart: Process 4"/>
          <p:cNvSpPr/>
          <p:nvPr/>
        </p:nvSpPr>
        <p:spPr>
          <a:xfrm>
            <a:off x="7010280" y="533520"/>
            <a:ext cx="1676160" cy="612360"/>
          </a:xfrm>
          <a:prstGeom prst="flowChartProcess">
            <a:avLst/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PUB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ular Callout 6"/>
          <p:cNvSpPr/>
          <p:nvPr/>
        </p:nvSpPr>
        <p:spPr>
          <a:xfrm>
            <a:off x="762120" y="3733920"/>
            <a:ext cx="1752120" cy="1755360"/>
          </a:xfrm>
          <a:prstGeom prst="wedgeRectCallout">
            <a:avLst>
              <a:gd name="adj1" fmla="val 68906"/>
              <a:gd name="adj2" fmla="val 102083"/>
            </a:avLst>
          </a:prstGeom>
          <a:solidFill>
            <a:srgbClr val="7f002d"/>
          </a:solidFill>
          <a:ln>
            <a:solidFill>
              <a:srgbClr val="5d002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ules of Membership &amp; Terms and Conditions are posted here for down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 anchorCtr="1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990720"/>
            <a:ext cx="5105160" cy="485748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hallenge Time! Who wants priz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981080"/>
            <a:ext cx="6095520" cy="373356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How do we help? With our produ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Content Placeholder 5"/>
          <p:cNvGraphicFramePr/>
          <p:nvPr/>
        </p:nvGraphicFramePr>
        <p:xfrm>
          <a:off x="457200" y="1486080"/>
          <a:ext cx="8229240" cy="4876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379440">
                <a:tc>
                  <a:txBody>
                    <a:bodyPr lIns="101520" rIns="101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f002d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HAS A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f002d"/>
                    </a:solidFill>
                  </a:tcPr>
                </a:tc>
              </a:tr>
              <a:tr h="37944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 residential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</a:tr>
              <a:tr h="67140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Link and residential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37944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Commercial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</a:tr>
              <a:tr h="37944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eReg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eRegistry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67140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e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eRegistry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</a:tr>
              <a:tr h="37944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Servicer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  <a:tr h="67140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i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 residential members who use this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7cccd"/>
                    </a:solidFill>
                  </a:tcPr>
                </a:tc>
              </a:tr>
              <a:tr h="963360"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® Fraud Al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  <a:tc>
                  <a:txBody>
                    <a:bodyPr lIns="101520" rIns="10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 residential members who use this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1520" marR="101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7e7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How do we help? Frau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will help in your fight against frau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FraudAL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Li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Servicer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438280"/>
            <a:ext cx="4495320" cy="338904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How do we help? Property Pre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rs enter property preservation contact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nicipalities get free access to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at if some of your loans are not registered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657600"/>
            <a:ext cx="3428640" cy="24206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i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® System allows registration of loans where MERS i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rtgage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-only registrations or “MERS® iRegistration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members anti-fraud and tracking benefits of  MOM or non-MOM registration WITHOUT naming MERS as mortgag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Support Departments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orporate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http://www.lubbockonline.com/images/010198/scales.jpg"/>
          <p:cNvPicPr/>
          <p:nvPr/>
        </p:nvPicPr>
        <p:blipFill>
          <a:blip r:embed="rId1"/>
          <a:stretch/>
        </p:blipFill>
        <p:spPr>
          <a:xfrm>
            <a:off x="5105520" y="2819520"/>
            <a:ext cx="3831840" cy="289512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 Support Departments </a:t>
            </a:r>
            <a:br>
              <a:rPr sz="3600"/>
            </a:b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ustomer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dir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e custom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 of implementatio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with MERS Product Division to facilitate members’ smooth integration into MERS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s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ist you during joint marketing effo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es new MERS products and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pen Background without logo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 v2</Template>
  <TotalTime>208</TotalTime>
  <Application>LibreOffice/7.4.7.2$Linux_X86_64 LibreOffice_project/40$Build-2</Application>
  <AppVersion>15.0000</AppVersion>
  <Words>759</Words>
  <Paragraphs>184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6:03:49Z</dcterms:created>
  <dc:creator>karmelal</dc:creator>
  <dc:description>www.condorcom.com</dc:description>
  <dc:language>en-US</dc:language>
  <cp:lastModifiedBy>karmelal</cp:lastModifiedBy>
  <dcterms:modified xsi:type="dcterms:W3CDTF">2010-06-14T13:49:00Z</dcterms:modified>
  <cp:revision>4</cp:revision>
  <dc:subject/>
  <dc:title>Help Is At Your Fingerti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9</vt:r8>
  </property>
</Properties>
</file>